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740-3DB0-4F23-B0F1-48E18831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302-C453-4C97-A676-54D40581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9D8-287E-46C5-9BA4-906EC523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AA1-CAA9-49D6-99C3-398E01FA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8A2-CFC4-4BCC-929B-46B0E77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CAF-4654-40D1-B462-EC30F846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6CD-1DC0-4890-ACE2-88929026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DD9-5263-4CA9-9783-48D53A0F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ACA-3E87-48B4-8149-AFBFB61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634-DE5F-4B3E-A100-2E9E515A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C37-8E63-47CB-A50C-621DD1A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9FB-BF1D-40EB-84C8-BEC40F8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7CF11-D2B4-4314-99C0-CB621907D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version after negative adverbi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 onl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d he fai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port the accident, but also later denied that he he’d been driving the ca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ve 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joyed myself mo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expressions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: never, rarely, seld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n a minister have been forc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such a probl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s the team gi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wors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d I 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 much responsibil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expressions: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hardly, barely, scarcely, no soon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ly had the train left the station, when there was an explo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cely had I entered the room when the phone ra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ooner had I reached the door than I realised it was loc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ooner was the team back on the pitch than it started to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nIy 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sting the lett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d I remem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I had forgotten to put on a stam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nly if/when, only then, only l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efers to 'the state of being the only one', there is no inversion following i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6175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nly M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alised that the door was not lock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rases containing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o/n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no conditi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re they to open fir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w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 unti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t ho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d I no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I had taken the wrong umbrell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rases includ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der no circumstances, on no account, at no time, in no way, on no condition, not until, not only ... (but also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type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tence can be inverted witho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they were to excape, there would be an outc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they to escape, there would b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the police had found out, I would ha ve been arr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 the police found out, I would have bee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you should hear anything, let me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hear anything, let me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0:45:33Z</dcterms:created>
  <dc:creator>Paul Filippetto</dc:creator>
  <dc:description/>
  <dc:language>en-US</dc:language>
  <cp:lastModifiedBy>Paul Filippetto</cp:lastModifiedBy>
  <dcterms:modified xsi:type="dcterms:W3CDTF">2014-11-06T13:25:10Z</dcterms:modified>
  <cp:revision>14</cp:revision>
  <dc:subject/>
  <dc:title>PowerPoint Presentation</dc:title>
</cp:coreProperties>
</file>